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EEE0-7C43-4968-89AE-DCC77BBD8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B483-EBAD-473C-8159-4DF0D50B1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414D-DD8E-4A42-B364-BC91D080D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0224-6FFC-4B54-9195-98263A46D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55202-2853-4036-8F57-BA8723BDD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DACC1-D5AE-445F-8530-16C2D5B04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5863E-2628-436D-A92E-6110C67C0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82DAC-842A-41A1-8978-896EE436E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F21EF-1F47-411F-837B-D18C43D2D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2E76A-F8F5-4AD6-8A36-1E80CF04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4BFF0-EF1B-40A5-932B-FE7CA7FB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2FBC-7D8E-400A-8A5B-21784B0DD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F06F8-6A0B-4B5B-BD0D-51AF9514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8EA8B-D748-4456-A730-2737A827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C61D6-A9C5-472B-B168-9B2AF752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99B08-A9CE-4E09-BDEE-AA6A22CDB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83B5B-F48E-4D3D-8A7B-351DD85AF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99B2-DD80-4F38-8EC9-1F976F3CE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2A16-71BA-4FEC-BCB2-AF7BD0260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8963-0E09-4640-89D7-B107D0C72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9DB0-6EAC-4541-A8D0-9D6AA53A0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B9DB-8938-4A18-BB49-3F42FC70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2DF4-86AF-43D0-A678-22366EDD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862C-409A-45C9-9725-FD0819E0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B5A86-0C89-4804-82FC-594A280ECDA2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750000"/>
            <a:chOff x="0" y="108000"/>
            <a:chExt cx="9101160" cy="6750000"/>
          </a:xfrm>
        </p:grpSpPr>
        <p:grpSp>
          <p:nvGrpSpPr>
            <p:cNvPr id="99" name=""/>
            <p:cNvGrpSpPr/>
            <p:nvPr/>
          </p:nvGrpSpPr>
          <p:grpSpPr>
            <a:xfrm>
              <a:off x="0" y="108000"/>
              <a:ext cx="9101160" cy="6489720"/>
              <a:chOff x="0" y="108000"/>
              <a:chExt cx="9101160" cy="648972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0" y="936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0" y="1731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0" y="25588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0" y="3354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0" y="4179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49752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5802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597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grpSp>
              <p:nvGrpSpPr>
                <p:cNvPr id="109" name="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766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15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15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766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85572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169560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169560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85572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7668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1562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1562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7668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85500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169524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169524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85500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8" name="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7668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1562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1562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7668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85500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69524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69524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85500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7668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1562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1562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7668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85500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169524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169524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85500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24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32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32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24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25509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33908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33908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25509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24620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2580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32580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24620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25502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3390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3390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25502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24620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32580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32580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24620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25502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3390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3390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25502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4620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32580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32580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4620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25502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3390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3390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25502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41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49528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49528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1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2465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50864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50864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42465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1576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953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4953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41576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4245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086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086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4245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41576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4953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4953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41576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245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5086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5086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4245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41576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4953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4953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41576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4245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5086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5086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245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58532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66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66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58532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594216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67816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67816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94216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5853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66492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66492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5853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5941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678168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678168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5941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5853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66492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66492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5853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5941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678168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678168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5941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853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66492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66492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853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5941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678168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678168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5941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75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83440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83440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75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763740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84772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84772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763740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75484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83444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83444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75484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76366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84772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84772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76366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75484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83444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83444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5484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6366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84772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84772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76366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75484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83444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83444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5484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76366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84772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84772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76366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94" name=""/>
              <p:cNvGrpSpPr/>
              <p:nvPr/>
            </p:nvGrpSpPr>
            <p:grpSpPr>
              <a:xfrm>
                <a:off x="4680" y="108000"/>
                <a:ext cx="9096480" cy="0"/>
                <a:chOff x="4680" y="108000"/>
                <a:chExt cx="9096480" cy="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6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6040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7002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55600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3955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2512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0911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9468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78672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6420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48196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307" name="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D134C-2B3B-46A1-BF6F-3B176686B482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176"/>
                </a:solidFill>
                <a:latin typeface="Arial"/>
              </a:rPr>
              <a:t>TEFL 1 – The world of English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619280" y="1773360"/>
            <a:ext cx="619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A. The place of English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383ad"/>
                </a:solidFill>
                <a:latin typeface="Arial"/>
              </a:rPr>
              <a:t>English is not the language with the largest number of native or first language speakers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Salomi Papadima-Sophocleou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40D4-002F-4344-9F4D-A2F9FBECB45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176"/>
                </a:solidFill>
                <a:latin typeface="Arial"/>
              </a:rPr>
              <a:t>TEFL – The world of English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8383ad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383ad"/>
                </a:solidFill>
                <a:latin typeface="Arial"/>
              </a:rPr>
              <a:t>The place of English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383ad"/>
                </a:solidFill>
                <a:latin typeface="Arial"/>
              </a:rPr>
              <a:t>A2 How English got ther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383ad"/>
                </a:solidFill>
                <a:latin typeface="Arial"/>
              </a:rPr>
              <a:t>A colonial history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383ad"/>
                </a:solidFill>
                <a:latin typeface="Arial"/>
              </a:rPr>
              <a:t>Economic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383ad"/>
                </a:solidFill>
                <a:latin typeface="Arial"/>
              </a:rPr>
              <a:t>Tra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383ad"/>
                </a:solidFill>
                <a:latin typeface="Arial"/>
              </a:rPr>
              <a:t>Information exchang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383ad"/>
                </a:solidFill>
                <a:latin typeface="Arial"/>
              </a:rPr>
              <a:t>Popular cultur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Salomi Papadima-Sophocleou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E626-4C20-44AA-A437-BA15A880C77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176"/>
                </a:solidFill>
                <a:latin typeface="Arial"/>
              </a:rPr>
              <a:t>TEFL – The world of English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The place of English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A3 Where English fit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383ad"/>
                </a:solidFill>
                <a:latin typeface="Arial"/>
              </a:rPr>
              <a:t>Battle for a place among other language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383ad"/>
                </a:solidFill>
                <a:latin typeface="Arial"/>
              </a:rPr>
              <a:t>dubbed film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383ad"/>
                </a:solidFill>
                <a:latin typeface="Arial"/>
              </a:rPr>
              <a:t>Internet growth of other languages (54% EN 1999 dropping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383ad"/>
                </a:solidFill>
                <a:latin typeface="Arial"/>
              </a:rPr>
              <a:t>Battle with local language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383ad"/>
                </a:solidFill>
                <a:latin typeface="Arial"/>
              </a:rPr>
              <a:t>Linguistic and cultural imperialism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383ad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Salomi Papadima-Sophocleou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AE03-9476-4A9A-82FF-E67B68ED0DA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176"/>
                </a:solidFill>
                <a:latin typeface="Arial"/>
              </a:rPr>
              <a:t>TEFL – The world of English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The place of English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A4 The future of English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383ad"/>
                </a:solidFill>
                <a:latin typeface="Arial"/>
              </a:rPr>
              <a:t>What happens as more and more people appropriate it for their own use?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383ad"/>
                </a:solidFill>
                <a:latin typeface="Arial"/>
              </a:rPr>
              <a:t>Will it split into varieties that become less mutually intelligible?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383ad"/>
                </a:solidFill>
                <a:latin typeface="Arial"/>
              </a:rPr>
              <a:t>Will it continue to march over the globe crushing all in its path?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383ad"/>
                </a:solidFill>
                <a:latin typeface="Arial"/>
              </a:rPr>
              <a:t>Will it be the only language left?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Salomi Papadima-Sophocleou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44FD-0B04-4B83-8B3F-A03B456371C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176"/>
                </a:solidFill>
                <a:latin typeface="Arial"/>
              </a:rPr>
              <a:t>TEFL – The world of English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8383ad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383ad"/>
                </a:solidFill>
                <a:latin typeface="Arial"/>
              </a:rPr>
              <a:t>The place of English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383ad"/>
                </a:solidFill>
                <a:latin typeface="Arial"/>
              </a:rPr>
              <a:t>A4 The future of English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383ad"/>
                </a:solidFill>
                <a:latin typeface="Arial"/>
              </a:rPr>
              <a:t>Graddol (1997) future possibilitie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383ad"/>
                </a:solidFill>
                <a:latin typeface="Arial"/>
              </a:rPr>
              <a:t>Hispanic as a language community is the fastest-growing in the USA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383ad"/>
                </a:solidFill>
                <a:latin typeface="Arial"/>
              </a:rPr>
              <a:t>Internet and the WWW: 80% English in 1990s to drop around 40% by 2010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Salomi Papadima-Sophocleou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51AD-1E2B-42B5-AA37-0AAA709897C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176"/>
                </a:solidFill>
                <a:latin typeface="Arial"/>
              </a:rPr>
              <a:t>TEFL – The world of English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383ad"/>
                </a:solidFill>
                <a:latin typeface="Arial"/>
              </a:rPr>
              <a:t>B.</a:t>
            </a:r>
            <a:r>
              <a:rPr b="1" lang="en-GB" sz="32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8383ad"/>
                </a:solidFill>
                <a:latin typeface="Arial"/>
              </a:rPr>
              <a:t>Varieties of English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383ad"/>
                </a:solidFill>
                <a:latin typeface="Arial"/>
              </a:rPr>
              <a:t>B1</a:t>
            </a:r>
            <a:r>
              <a:rPr b="1" lang="en-GB" sz="32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8383ad"/>
                </a:solidFill>
                <a:latin typeface="Arial"/>
              </a:rPr>
              <a:t>Three circl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383ad"/>
                </a:solidFill>
                <a:latin typeface="Arial"/>
              </a:rPr>
              <a:t>Is English just ONE ENGLISH or has it got many forms, depending on who speaks or writes it and where they do this? (difference in pronunciation, vocabulary, and grammar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Salomi Papadima-Sophocleou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EF93-4BF7-49AD-B58F-0AB70E32167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176"/>
                </a:solidFill>
                <a:latin typeface="Arial"/>
              </a:rPr>
              <a:t>TEFL – The world of English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383ad"/>
                </a:solidFill>
                <a:latin typeface="Arial"/>
              </a:rPr>
              <a:t>B.</a:t>
            </a:r>
            <a:r>
              <a:rPr b="1" lang="en-GB" sz="32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8383ad"/>
                </a:solidFill>
                <a:latin typeface="Arial"/>
              </a:rPr>
              <a:t>Varieties of English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383ad"/>
                </a:solidFill>
                <a:latin typeface="Arial"/>
              </a:rPr>
              <a:t>B1</a:t>
            </a:r>
            <a:r>
              <a:rPr b="1" lang="en-GB" sz="32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8383ad"/>
                </a:solidFill>
                <a:latin typeface="Arial"/>
              </a:rPr>
              <a:t>Three circl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067280" y="3952800"/>
            <a:ext cx="79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276720" y="364500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Outer Circl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627280" y="3141720"/>
            <a:ext cx="3240000" cy="251928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492360" y="3213000"/>
            <a:ext cx="17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383ad"/>
                </a:solidFill>
                <a:latin typeface="Times New Roman"/>
              </a:rPr>
              <a:t>Expanding Circle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276720" y="3645000"/>
            <a:ext cx="1944720" cy="1657080"/>
          </a:xfrm>
          <a:prstGeom prst="donut">
            <a:avLst>
              <a:gd name="adj" fmla="val 25000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64000" y="37162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383ad"/>
                </a:solidFill>
                <a:latin typeface="Times New Roman"/>
              </a:rPr>
              <a:t>Outer Circle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851280" y="4149720"/>
            <a:ext cx="100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Times New Roman"/>
              </a:rPr>
              <a:t>Inner Circle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5148360" y="3213000"/>
            <a:ext cx="1224000" cy="43200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859280" y="4221000"/>
            <a:ext cx="1584360" cy="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572000" y="4508640"/>
            <a:ext cx="1584360" cy="86508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588000" y="3789360"/>
            <a:ext cx="1944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383ad"/>
                </a:solidFill>
                <a:latin typeface="Times New Roman"/>
              </a:rPr>
              <a:t>e.g. India, Singapore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383ad"/>
                </a:solidFill>
                <a:latin typeface="Times New Roman"/>
              </a:rPr>
              <a:t>150-300 million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659640" y="2781360"/>
            <a:ext cx="17272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383ad"/>
                </a:solidFill>
                <a:latin typeface="Times New Roman"/>
              </a:rPr>
              <a:t>e.g. China, Russia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383ad"/>
                </a:solidFill>
                <a:latin typeface="Times New Roman"/>
              </a:rPr>
              <a:t>100-1000 million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300720" y="5084640"/>
            <a:ext cx="17272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383ad"/>
                </a:solidFill>
                <a:latin typeface="Times New Roman"/>
              </a:rPr>
              <a:t>e.g. USA, UK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383ad"/>
                </a:solidFill>
                <a:latin typeface="Times New Roman"/>
              </a:rPr>
              <a:t>320-380 million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Salomi Papadima-Sophocleou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DB84-8F81-4957-940B-4C3921927E6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176"/>
                </a:solidFill>
                <a:latin typeface="Arial"/>
              </a:rPr>
              <a:t>TEFL – The world of English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383ad"/>
                </a:solidFill>
                <a:latin typeface="Arial"/>
              </a:rPr>
              <a:t>B.</a:t>
            </a:r>
            <a:r>
              <a:rPr b="1" lang="en-GB" sz="32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8383ad"/>
                </a:solidFill>
                <a:latin typeface="Arial"/>
              </a:rPr>
              <a:t>Varieties of English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383ad"/>
                </a:solidFill>
                <a:latin typeface="Arial"/>
              </a:rPr>
              <a:t>B1</a:t>
            </a:r>
            <a:r>
              <a:rPr b="1" lang="en-GB" sz="32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8383ad"/>
                </a:solidFill>
                <a:latin typeface="Arial"/>
              </a:rPr>
              <a:t>Three circl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383ad"/>
                </a:solidFill>
                <a:latin typeface="Arial"/>
              </a:rPr>
              <a:t>ENGLISHE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383ad"/>
                </a:solidFill>
                <a:latin typeface="Arial"/>
              </a:rPr>
              <a:t>British? USA? Australian? South African? Canadian? Sri Lankan? Nigerian?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Salomi Papadima-Sophocleou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B64A-AAA3-47A8-BF34-EA9DD66A89A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176"/>
                </a:solidFill>
                <a:latin typeface="Arial"/>
              </a:rPr>
              <a:t>TEFL – The world of English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B.</a:t>
            </a: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Varieties of English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B1</a:t>
            </a: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Three circle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British, which British?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British Isles, London, Scotland, Ireland, Yorkshire, etc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383ad"/>
                </a:solidFill>
                <a:latin typeface="Arial"/>
              </a:rPr>
              <a:t>Examples: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383ad"/>
                </a:solidFill>
                <a:latin typeface="Arial"/>
              </a:rPr>
              <a:t>Londoner: get a </a:t>
            </a:r>
            <a:r>
              <a:rPr b="0" i="1" lang="en-GB" sz="2800" spc="-1" strike="noStrike">
                <a:solidFill>
                  <a:srgbClr val="8383ad"/>
                </a:solidFill>
                <a:latin typeface="Arial"/>
              </a:rPr>
              <a:t>take-away</a:t>
            </a:r>
            <a:r>
              <a:rPr b="0" lang="en-GB" sz="2800" spc="-1" strike="noStrike">
                <a:solidFill>
                  <a:srgbClr val="8383ad"/>
                </a:solidFill>
                <a:latin typeface="Arial"/>
              </a:rPr>
              <a:t> meal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383ad"/>
                </a:solidFill>
                <a:latin typeface="Arial"/>
              </a:rPr>
              <a:t>Scottish person: order a </a:t>
            </a:r>
            <a:r>
              <a:rPr b="0" i="1" lang="en-GB" sz="2800" spc="-1" strike="noStrike">
                <a:solidFill>
                  <a:srgbClr val="8383ad"/>
                </a:solidFill>
                <a:latin typeface="Arial"/>
              </a:rPr>
              <a:t>carry-out</a:t>
            </a:r>
            <a:r>
              <a:rPr b="0" lang="en-GB" sz="2800" spc="-1" strike="noStrike">
                <a:solidFill>
                  <a:srgbClr val="8383ad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Salomi Papadima-Sophocleou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E1DA-71CD-4032-BC3F-1BB10F63B00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176"/>
                </a:solidFill>
                <a:latin typeface="Arial"/>
              </a:rPr>
              <a:t>TEFL – The world of English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383ad"/>
                </a:solidFill>
                <a:latin typeface="Arial"/>
              </a:rPr>
              <a:t>B.</a:t>
            </a:r>
            <a:r>
              <a:rPr b="1" lang="en-GB" sz="32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8383ad"/>
                </a:solidFill>
                <a:latin typeface="Arial"/>
              </a:rPr>
              <a:t>Varieties of English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383ad"/>
                </a:solidFill>
                <a:latin typeface="Arial"/>
              </a:rPr>
              <a:t>B1</a:t>
            </a:r>
            <a:r>
              <a:rPr b="1" lang="en-GB" sz="32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8383ad"/>
                </a:solidFill>
                <a:latin typeface="Arial"/>
              </a:rPr>
              <a:t>Three circl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383ad"/>
                </a:solidFill>
                <a:latin typeface="Arial"/>
              </a:rPr>
              <a:t>American English, which American English?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383ad"/>
                </a:solidFill>
                <a:latin typeface="Arial"/>
              </a:rPr>
              <a:t>Australian English, which Australian English?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Salomi Papadima-Sophocleou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1437-3905-4B4A-BC90-9F1FBABD378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176"/>
                </a:solidFill>
                <a:latin typeface="Arial"/>
              </a:rPr>
              <a:t>TEFL – The world of English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B.</a:t>
            </a: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Varieties of English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B1</a:t>
            </a: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Three circle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Factors determining type of English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Geographic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Region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Social clas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Ethnic grouping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Sex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Salomi Papadima-Sophocleou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E0E2-8AAC-44D1-A326-B72B17FF172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176"/>
                </a:solidFill>
                <a:latin typeface="Arial"/>
              </a:rPr>
              <a:t>TEFL 1 – The world of English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383ad"/>
                </a:solidFill>
                <a:latin typeface="Arial"/>
              </a:rPr>
              <a:t>A. The place of English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383ad"/>
                </a:solidFill>
                <a:latin typeface="Arial"/>
              </a:rPr>
              <a:t>English is a </a:t>
            </a:r>
            <a:r>
              <a:rPr b="0" i="1" lang="en-GB" sz="3200" spc="-1" strike="noStrike">
                <a:solidFill>
                  <a:srgbClr val="8383ad"/>
                </a:solidFill>
                <a:latin typeface="Arial"/>
              </a:rPr>
              <a:t>lingua franca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383ad"/>
                </a:solidFill>
                <a:latin typeface="Arial"/>
              </a:rPr>
              <a:t>Definition - </a:t>
            </a:r>
            <a:r>
              <a:rPr b="0" i="1" lang="en-GB" sz="3200" spc="-1" strike="noStrike">
                <a:solidFill>
                  <a:srgbClr val="8383ad"/>
                </a:solidFill>
                <a:latin typeface="Arial"/>
              </a:rPr>
              <a:t>Lingua franca</a:t>
            </a:r>
            <a:r>
              <a:rPr b="0" lang="en-GB" sz="3200" spc="-1" strike="noStrike">
                <a:solidFill>
                  <a:srgbClr val="8383ad"/>
                </a:solidFill>
                <a:latin typeface="Arial"/>
              </a:rPr>
              <a:t>: a language widely adopted for communication between two speakers whose native languages are different from each other’s and where one or both speakers are using it as an L2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Salomi Papadima-Sophocleou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AD26-BF73-4C22-B60E-F7443364D3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176"/>
                </a:solidFill>
                <a:latin typeface="Arial"/>
              </a:rPr>
              <a:t>TEFL – The world of English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B.</a:t>
            </a: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Varieties of English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B2 Appropriate models of English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Which English to teach?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Factors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383ad"/>
                </a:solidFill>
                <a:latin typeface="Arial"/>
              </a:rPr>
              <a:t>Work with the variety that best reflects the teacher’s own language use, always provided that this will be understood by most other English speakers in the world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383ad"/>
                </a:solidFill>
                <a:latin typeface="Arial"/>
              </a:rPr>
              <a:t>Expose students to others as wel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383ad"/>
                </a:solidFill>
                <a:latin typeface="Arial"/>
              </a:rPr>
              <a:t>Consider students’ needs (what the students are most likely to come into contact with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383ad"/>
                </a:solidFill>
                <a:latin typeface="Arial"/>
              </a:rPr>
              <a:t>Consider resource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Salomi Papadima-Sophocleou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AEF8-360C-44D3-A2CE-2113476CD66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176"/>
                </a:solidFill>
                <a:latin typeface="Arial"/>
              </a:rPr>
              <a:t>TEFL – The world of English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B.</a:t>
            </a: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Varieties of English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B3</a:t>
            </a: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General or Specific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Genera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383ad"/>
                </a:solidFill>
                <a:latin typeface="Arial"/>
              </a:rPr>
              <a:t>All-purpose language: different language skills, topics from a range of sources, basing their selection of content more on student interest and engagement.  Communicate on a general social level and to cope with the normal range of texts which educated language users experience outside their professional lives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383ad"/>
                </a:solidFill>
                <a:latin typeface="Arial"/>
              </a:rPr>
              <a:t>Decision based – when we do not know how, why or when students will need the language in the future; give them language with the broadest range of use possible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Salomi Papadima-Sophocleou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3020-C2EC-4B07-A745-BAD8CA3AF44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176"/>
                </a:solidFill>
                <a:latin typeface="Arial"/>
              </a:rPr>
              <a:t>TEFL – The world of English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B.</a:t>
            </a: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Varieties of English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B1</a:t>
            </a: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Three circle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Specific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ESP (English for Specific Purposes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EAP (English for Academic Purposes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EST (English for Science and Technology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Business English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Other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Salomi Papadima-Sophocleou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8E5B-EB54-49D5-9586-F9380BBA6D7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176"/>
                </a:solidFill>
                <a:latin typeface="Arial"/>
              </a:rPr>
              <a:t>TEFL 1 – The world of English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383ad"/>
                </a:solidFill>
                <a:latin typeface="Arial"/>
              </a:rPr>
              <a:t>A. The place of English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383ad"/>
                </a:solidFill>
                <a:latin typeface="Arial"/>
              </a:rPr>
              <a:t>Lingua franca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383ad"/>
                </a:solidFill>
                <a:latin typeface="Arial"/>
              </a:rPr>
              <a:t>In Ancient Times in the western world: Ancient Greek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383ad"/>
                </a:solidFill>
                <a:latin typeface="Arial"/>
              </a:rPr>
              <a:t>In Middle Ages in Europe:  Lati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Salomi Papadima-Sophocleou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7572-2185-4A74-9CAA-077C3E7FF7E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176"/>
                </a:solidFill>
                <a:latin typeface="Arial"/>
              </a:rPr>
              <a:t>TEFL 1 – The world of English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A. The place of English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963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383ad"/>
                </a:solidFill>
                <a:latin typeface="Arial"/>
              </a:rPr>
              <a:t>English is one of the main languages of International communicatio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963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383ad"/>
                </a:solidFill>
                <a:latin typeface="Arial"/>
              </a:rPr>
              <a:t>Even people who are not speakers of English often know words such as:  </a:t>
            </a:r>
            <a:r>
              <a:rPr b="0" i="1" lang="en-GB" sz="2400" spc="-1" strike="noStrike">
                <a:solidFill>
                  <a:srgbClr val="8383ad"/>
                </a:solidFill>
                <a:latin typeface="Arial"/>
              </a:rPr>
              <a:t>bank, chocolate, computer, hamburger, hospital, hot dog, hotel, piano, radio, restaurant, taxi, telephone, television, university </a:t>
            </a:r>
            <a:r>
              <a:rPr b="0" lang="en-GB" sz="2400" spc="-1" strike="noStrike">
                <a:solidFill>
                  <a:srgbClr val="8383ad"/>
                </a:solidFill>
                <a:latin typeface="Arial"/>
              </a:rPr>
              <a:t>and </a:t>
            </a:r>
            <a:r>
              <a:rPr b="0" i="1" lang="en-GB" sz="2400" spc="-1" strike="noStrike">
                <a:solidFill>
                  <a:srgbClr val="8383ad"/>
                </a:solidFill>
                <a:latin typeface="Arial"/>
              </a:rPr>
              <a:t>walkman.</a:t>
            </a:r>
            <a:r>
              <a:rPr b="0" lang="en-GB" sz="2400" spc="-1" strike="noStrike">
                <a:solidFill>
                  <a:srgbClr val="8383ad"/>
                </a:solidFill>
                <a:latin typeface="Arial"/>
              </a:rPr>
              <a:t>  Many of these words have themselves been borrowed by English from other languages of course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Salomi Papadima-Sophocleou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978B-AD01-49EB-93DE-6000E154C2C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176"/>
                </a:solidFill>
                <a:latin typeface="Arial"/>
              </a:rPr>
              <a:t>TEFL 1 – The world of English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11280" y="227628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8383ad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383ad"/>
                </a:solidFill>
                <a:latin typeface="Arial"/>
              </a:rPr>
              <a:t>The place of English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383ad"/>
                </a:solidFill>
                <a:latin typeface="Arial"/>
              </a:rPr>
              <a:t>A1 The numbers gam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383ad"/>
                </a:solidFill>
                <a:latin typeface="Arial"/>
              </a:rPr>
              <a:t>English: L1 or L2?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Salomi Papadima-Sophocleou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5C35-1938-4B09-8515-83682782D61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176"/>
                </a:solidFill>
                <a:latin typeface="Arial"/>
              </a:rPr>
              <a:t>TEFL – The world of English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763280" y="2060640"/>
            <a:ext cx="56149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8383ad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383ad"/>
                </a:solidFill>
                <a:latin typeface="Arial"/>
              </a:rPr>
              <a:t>The place of English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383ad"/>
                </a:solidFill>
                <a:latin typeface="Arial"/>
              </a:rPr>
              <a:t>A1 The numbers gam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383ad"/>
                </a:solidFill>
                <a:latin typeface="Arial"/>
              </a:rPr>
              <a:t>Bray Kachry (1985):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8383ad"/>
                </a:solidFill>
                <a:latin typeface="Arial"/>
              </a:rPr>
              <a:t>320-380 million: L1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8383ad"/>
                </a:solidFill>
                <a:latin typeface="Arial"/>
              </a:rPr>
              <a:t>250-350 million: L2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Salomi Papadima-Sophocleou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5627-3AF8-4040-AA11-558CB9B7092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176"/>
                </a:solidFill>
                <a:latin typeface="Arial"/>
              </a:rPr>
              <a:t>TEFL – The world of English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The place of English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A1 The numbers gam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383ad"/>
                </a:solidFill>
                <a:latin typeface="Arial"/>
              </a:rPr>
              <a:t>David Crystal (1995 &amp;1997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8383ad"/>
                </a:solidFill>
                <a:latin typeface="Arial"/>
              </a:rPr>
              <a:t>In 75 territories where English ‘holds a special place’ (not only Britain, the USA, Australia, Canada, etc. but also places such as Hong Kong, India, Malaysia and Nigeria)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8383ad"/>
                </a:solidFill>
                <a:latin typeface="Arial"/>
              </a:rPr>
              <a:t>277 million L1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8383ad"/>
                </a:solidFill>
                <a:latin typeface="Arial"/>
              </a:rPr>
              <a:t>98 million L2 (350 million if L2 speakers in e.g. Canada or Australia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Salomi Papadima-Sophocleou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28FF-3FA6-4B8A-871E-89E5978834B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176"/>
                </a:solidFill>
                <a:latin typeface="Arial"/>
              </a:rPr>
              <a:t>TEFL – The world of English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The place of English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A1 The numbers gam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383ad"/>
                </a:solidFill>
                <a:latin typeface="Arial"/>
              </a:rPr>
              <a:t>Between 600-700 million people in the world speak English (L1 or L2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383ad"/>
                </a:solidFill>
                <a:latin typeface="Arial"/>
              </a:rPr>
              <a:t>B. Kachru 1983 prediction: “</a:t>
            </a:r>
            <a:r>
              <a:rPr b="0" i="1" lang="en-GB" sz="2800" spc="-1" strike="noStrike">
                <a:solidFill>
                  <a:srgbClr val="8383ad"/>
                </a:solidFill>
                <a:latin typeface="Arial"/>
              </a:rPr>
              <a:t>… If the spread of English continues at the current rate, by the year 2000 its non-native speakers will outnumber its native speakers”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Salomi Papadima-Sophocleou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FEE5-4F10-4B01-86F8-93935CE3DF1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176"/>
                </a:solidFill>
                <a:latin typeface="Arial"/>
              </a:rPr>
              <a:t>TEFL – The world of English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The place of English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A1 The numbers gam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383ad"/>
                </a:solidFill>
                <a:latin typeface="Arial"/>
              </a:rPr>
              <a:t>Even if English will not remain dominant among world languages, it will remain a vital linguistic tool for many business people, academics, tourists and citizens of the world who wish to communicate easily across nationalities for many years to come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Salomi Papadima-Sophocleou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5537-A01A-427A-AD04-3C8B9DE798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0T07:56:09Z</dcterms:created>
  <dc:creator>sal</dc:creator>
  <dc:description/>
  <dc:language>en-US</dc:language>
  <cp:lastModifiedBy>CUT LC Language Instructors</cp:lastModifiedBy>
  <dcterms:modified xsi:type="dcterms:W3CDTF">2009-09-29T13:56:09Z</dcterms:modified>
  <cp:revision>18</cp:revision>
  <dc:subject/>
  <dc:title>TEFL – The world of English</dc:title>
</cp:coreProperties>
</file>